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j0074852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0A4C-BDE2-4F54-B3C3-7A7EA2D20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ame takes no time to prepare! Just gather questions you want to review with the kids, a worksheet they worked on or questions in your head and go. Divide your class into 4 groups and designate each team a car. Whoever gets the questions right, click on their car and it’ll drive 1/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the way around the track. First team to make a lap A) wins. B) gets the point. C) gets a prize. You then need to restart a new lap by clicking on new lap. This will reset all the cars. There are 15 laps in the game, but you don’t have to play them 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1EC1-2BD5-420A-909B-E436010E7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05B7-D616-4899-BC1F-B321B078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1582-827F-4AB8-90A9-E0B7A7725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12C5-D01F-4B68-809B-84250125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5434-5F45-4070-A150-5650C97D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22E3-E879-41D9-8501-871D28A3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AAD5-9252-49E1-B569-74561A28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86B4-E1EF-4647-BB31-BE52BF3A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10ED-1ABD-48AA-BA2B-3B198DED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D8E3-C5E0-4FAD-9B27-CA386262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B645-55F1-40F6-AFC9-62806F31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0573-5F0C-4516-8346-D3D03EC4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F322-F082-4E0E-B017-FC92EFE3F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 txBox="1"/>
          <p:nvPr/>
        </p:nvSpPr>
        <p:spPr>
          <a:xfrm>
            <a:off x="1143000" y="685800"/>
            <a:ext cx="33526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Ravie"/>
              </a:rPr>
              <a:t>Ra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Ravie"/>
              <a:ea typeface="Ravi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62520" y="4038480"/>
            <a:ext cx="426708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Ravie"/>
              </a:rPr>
              <a:t>Revie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Ravie"/>
              <a:ea typeface="Ravie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8120" y="2971800"/>
            <a:ext cx="1828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Ravie"/>
              </a:rPr>
              <a:t>-N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Ravie"/>
              <a:ea typeface="Ravie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0492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705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5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6">
                                  <p:stCondLst>
                                    <p:cond delay="450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6">
                                  <p:stCondLst>
                                    <p:cond delay="4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6">
                                  <p:stCondLst>
                                    <p:cond delay="4500"/>
                                  </p:stCondLst>
                                  <p:childTnLst>
                                    <p:animScale>
                                      <p:cBhvr>
                                        <p:cTn id="29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35">
                                  <p:stCondLst>
                                    <p:cond delay="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35">
                                  <p:stCondLst>
                                    <p:cond delay="7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35">
                                  <p:stCondLst>
                                    <p:cond delay="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5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952" dur="indefinite" restart="never" nodeType="tmRoot">
          <p:childTnLst>
            <p:seq>
              <p:cTn id="953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954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957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9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0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961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964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96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7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968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971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2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97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4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975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978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98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1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982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985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8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8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989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992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9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5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996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999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2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1003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1006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0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9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1010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1013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6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1017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1020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2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3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1024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1027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0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1031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1034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3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7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1038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1041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4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4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1045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1048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5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1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1052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1055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5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8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1059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1062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6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91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1067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1070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0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3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1074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1077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07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0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1081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1084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08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7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1088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1091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2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09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4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1095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1098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0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1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1102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1105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0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8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1109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1112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1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1116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1119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2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2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1123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1126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2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9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1130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1133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3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6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1137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1140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4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3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1144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1147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4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0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1151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1154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5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7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1158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1161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4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1165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1168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1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1172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1175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7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178" dur="indefinite" restart="never" nodeType="tmRoot">
          <p:childTnLst>
            <p:seq>
              <p:cTn id="1179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118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1183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18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6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1187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1190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1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3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1194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1197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19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0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1201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1204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20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7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1208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1211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1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1215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1218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2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1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1222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1225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2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8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1229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1232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3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5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1236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1239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4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2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1243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1246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4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9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1250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1253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5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6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1257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1260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6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3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1264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1267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6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0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1271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1274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7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7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1278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1281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8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4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1285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1288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9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43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291" dur="indefinite" restart="never" nodeType="tmRoot">
          <p:childTnLst>
            <p:seq>
              <p:cTn id="1292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1293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1296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2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9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1300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1303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30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6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1307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1310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31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3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1314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1317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31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0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1321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1324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2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7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1328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1331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3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4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1335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1338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4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1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1342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1345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4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8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1349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1352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5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5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1356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1359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6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2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1363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1366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6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9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1370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1373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6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1377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1380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3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1384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1387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8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0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1391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1394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9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7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1398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1401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69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404" dur="indefinite" restart="never" nodeType="tmRoot">
          <p:childTnLst>
            <p:seq>
              <p:cTn id="1405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1406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1409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41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2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1413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1416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41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9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1420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1423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4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6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1427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1430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43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3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1434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1437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3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0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1441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1444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4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7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1448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1451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5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4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1455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1458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6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1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1462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1465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6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8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1469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1472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7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5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1476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1479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8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2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1483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1486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8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9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1490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1493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9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6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1497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1500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0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3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1504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1507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0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0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1511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1514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1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95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517" dur="indefinite" restart="never" nodeType="tmRoot">
          <p:childTnLst>
            <p:seq>
              <p:cTn id="1518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1519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1522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52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5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1526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1529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53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2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1533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1536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5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9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1540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1543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54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6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1547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1550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5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3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1554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1557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5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0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1561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1564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6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7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1568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1571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7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4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1575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1578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8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1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1582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1585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8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8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1589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1592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9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5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1596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1599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0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1603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1606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0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9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1610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1613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1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6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1617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1620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2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3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1624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1627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2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1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0" dur="indefinite" restart="never" nodeType="tmRoot">
          <p:childTnLst>
            <p:seq>
              <p:cTn id="1631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1632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1635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6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63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8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1639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1642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64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5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1646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1649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65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2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1653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1656" dur="2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65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9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1660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1663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6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6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1667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1670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7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3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1674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1677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0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681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1684" dur="2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8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7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1688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1691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9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4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695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1698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70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1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1702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1705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70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8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709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1712" dur="2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71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5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1716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1719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72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2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1723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1726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72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9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1730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1733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73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6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737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1740" dur="2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74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53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60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67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74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81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8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95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102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109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116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123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130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137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144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151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15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16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173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180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187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19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20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20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215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22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229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236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243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250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257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5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264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271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279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2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286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2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293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2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300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3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307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314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321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328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335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342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349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356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363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37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37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38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392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3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399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4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406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4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413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4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420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427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434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438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441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448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452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455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462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469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476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9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480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483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49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3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494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497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1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505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6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5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512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5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519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5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523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526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52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9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530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533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5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540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5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544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547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5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55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5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558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561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5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4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565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56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57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1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572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575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57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579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582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5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5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586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589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5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596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5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603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6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6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607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610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6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7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618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6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1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622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625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6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62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632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63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5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636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639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6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646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6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653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6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660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6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664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667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6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0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671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674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6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7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678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681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6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4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685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688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6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692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695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69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699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702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7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706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709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7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2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713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716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7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9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720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723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7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13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728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731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2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7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4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735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738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74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745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6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74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752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7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5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756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759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76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763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766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76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9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770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773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7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6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777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780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78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3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784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787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78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0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791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794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7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7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798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801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0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4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805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808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1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812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815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1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8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819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822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2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5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826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829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3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2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833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836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3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39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839" dur="indefinite" restart="never" nodeType="tmRoot">
          <p:childTnLst>
            <p:seq>
              <p:cTn id="840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841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844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84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848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851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2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8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4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855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858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86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1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862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865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6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86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8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869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872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7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5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879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2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883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886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8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9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890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893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6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897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900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0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3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904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907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0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911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914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7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918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921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2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4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925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928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3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1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932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935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8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939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942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5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946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949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20:18:06Z</dcterms:created>
  <dc:creator>Clear Creek ISD</dc:creator>
  <dc:description/>
  <dc:language>en-US</dc:language>
  <cp:lastModifiedBy>Clear Creek ISD</cp:lastModifiedBy>
  <dcterms:modified xsi:type="dcterms:W3CDTF">2006-02-06T15:40:42Z</dcterms:modified>
  <cp:revision>12</cp:revision>
  <dc:subject/>
  <dc:title>Slide 1</dc:title>
</cp:coreProperties>
</file>